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7B46-B16E-42A0-9BB5-D87F1D61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AE8A-83BF-444D-9DD0-097CBF86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6C56-6A1B-4808-A260-2306AEE7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3945-1422-44A6-85BD-899FF493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CEBB-7E53-4360-8EBF-12F67685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6EBD-EF49-4521-82E6-B7F21FF1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34F0-5854-47CF-96CC-C7B17A38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0905-7619-4852-AD80-E1E0999D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C473-25CC-4C9E-B296-9D2AFAC1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E2EC-8E5A-49D1-AF52-5D40529E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25E0-95E9-45EF-824F-592EBF78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3B83-75D5-4BAB-A8FF-2FFA6467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90DB-B30A-44FC-9000-C7230D881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wanda.williams\My Documents\My Pictures\Microsoft Clip Organizer\j032374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"/>
          <p:cNvSpPr/>
          <p:nvPr/>
        </p:nvSpPr>
        <p:spPr>
          <a:xfrm rot="16200000">
            <a:off x="4197960" y="2654640"/>
            <a:ext cx="4729320" cy="36766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86400" y="3352680"/>
            <a:ext cx="2362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Here lies Ebenezer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croog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BAH HUMBUG!!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C:\Documents and Settings\wanda.williams\Local Settings\Temporary Internet Files\Content.IE5\LX2YN4OC\MCBD07752_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2"/>
          <p:cNvSpPr/>
          <p:nvPr/>
        </p:nvSpPr>
        <p:spPr>
          <a:xfrm rot="16200000">
            <a:off x="5598000" y="3164400"/>
            <a:ext cx="3662640" cy="266724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3657600"/>
            <a:ext cx="20574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lies Ebenezer Scroo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BLESS EVERYONE!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25:11Z</dcterms:created>
  <dc:creator>wanda.williams</dc:creator>
  <dc:description/>
  <dc:language>en-US</dc:language>
  <cp:lastModifiedBy>Guest</cp:lastModifiedBy>
  <dcterms:modified xsi:type="dcterms:W3CDTF">2009-12-09T22:51:01Z</dcterms:modified>
  <cp:revision>7</cp:revision>
  <dc:subject/>
  <dc:title>Slide 1</dc:title>
</cp:coreProperties>
</file>